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9447-6BA0-4160-B7A3-6E9948FA8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468F-1EF0-48E3-969E-567D7AC64BE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3ABB-712C-4FF8-BDD1-8F0DA19F9DA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42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14040" rIns="14040" tIns="14040" bIns="14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62E3-5288-4243-8DF8-9FE6AC6520B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42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14040" rIns="14040" tIns="14040" bIns="14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1DEE-5645-47DA-AADF-A3AEA42BF04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42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14040" rIns="14040" tIns="14040" bIns="14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B2E80-2A9D-4BA6-BC1B-B964C6D7CE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D7B01-6629-44E2-9A0D-4A735F736E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A8763-9E5C-4E1E-B6BB-6759CD2594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BE7ED-F994-4833-987B-F7AD3F9B62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22F69-F8CD-4710-B758-8F64A308F4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D5145-130C-4F98-8C2C-60C5E38C59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A69A5-0344-410F-A83E-1E21DFA966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730E0-1D9A-4B7E-A60A-8181828780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0063B-A8D5-4E1F-98AF-68C49AEC8C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143A6-7CA3-44CE-B929-BBA83453B2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897EA-1EE4-4698-90A2-A5A7A2EDC7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B7AE6-3F1A-40CF-B1A4-1ACC1F69EC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bama.ua.edu/~jhartman" TargetMode="External"/><Relationship Id="rId3" Type="http://schemas.openxmlformats.org/officeDocument/2006/relationships/hyperlink" Target="http://bama.ua.edu/~jhartman/689/tutintro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68EA-B4C6-4CAE-BB97-E22D23CF3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9">
            <a:hlinkClick r:id="rId2"/>
          </p:cNvPr>
          <p:cNvSpPr/>
          <p:nvPr/>
        </p:nvSpPr>
        <p:spPr>
          <a:xfrm>
            <a:off x="685800" y="6400800"/>
            <a:ext cx="2895480" cy="304920"/>
          </a:xfrm>
          <a:custGeom>
            <a:avLst/>
            <a:gdLst>
              <a:gd name="textAreaLeft" fmla="*/ 19440 w 2895480"/>
              <a:gd name="textAreaRight" fmla="*/ 2876040 w 2895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04894" h="21600">
                <a:moveTo>
                  <a:pt x="0" y="0"/>
                </a:moveTo>
                <a:lnTo>
                  <a:pt x="204894" y="0"/>
                </a:lnTo>
                <a:lnTo>
                  <a:pt x="204894" y="21600"/>
                </a:lnTo>
                <a:lnTo>
                  <a:pt x="0" y="21600"/>
                </a:lnTo>
                <a:close/>
              </a:path>
              <a:path fill="lightenLess" w="204894" h="21600">
                <a:moveTo>
                  <a:pt x="0" y="0"/>
                </a:moveTo>
                <a:lnTo>
                  <a:pt x="204894" y="0"/>
                </a:lnTo>
                <a:lnTo>
                  <a:pt x="203494" y="1400"/>
                </a:lnTo>
                <a:lnTo>
                  <a:pt x="1400" y="1400"/>
                </a:lnTo>
                <a:close/>
              </a:path>
              <a:path fill="darken" w="204894" h="21600">
                <a:moveTo>
                  <a:pt x="204894" y="0"/>
                </a:moveTo>
                <a:lnTo>
                  <a:pt x="204894" y="21600"/>
                </a:lnTo>
                <a:lnTo>
                  <a:pt x="203494" y="20200"/>
                </a:lnTo>
                <a:lnTo>
                  <a:pt x="203494" y="1400"/>
                </a:lnTo>
                <a:close/>
              </a:path>
              <a:path fill="darkenLess" w="204894" h="21600">
                <a:moveTo>
                  <a:pt x="2048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494" y="20200"/>
                </a:lnTo>
                <a:close/>
              </a:path>
              <a:path fill="lighten" w="2048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AutoShape 10">
            <a:hlinkClick r:id="rId3"/>
          </p:cNvPr>
          <p:cNvSpPr/>
          <p:nvPr/>
        </p:nvSpPr>
        <p:spPr>
          <a:xfrm>
            <a:off x="304920" y="64008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noFill/>
          <a:ln w="6480">
            <a:solidFill>
              <a:srgbClr val="ead7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bama.ua.edu/~jhartman/689/compute.ppt" TargetMode="External"/><Relationship Id="rId2" Type="http://schemas.openxmlformats.org/officeDocument/2006/relationships/hyperlink" Target="http://bama.ua.edu/~jhartman/689/syntax.ppt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BCD3-43C5-4F55-8CA1-D857258EA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915840" y="609480"/>
            <a:ext cx="73137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d7f5"/>
                </a:solidFill>
                <a:latin typeface="Tahoma"/>
              </a:rPr>
              <a:t>An Interactive Tutorial for SPSS 10.0 for Windows</a:t>
            </a:r>
            <a:r>
              <a:rPr b="0" lang="en-US" sz="2400" spc="-1" strike="noStrike" baseline="30000">
                <a:solidFill>
                  <a:srgbClr val="ead7f5"/>
                </a:solidFill>
                <a:latin typeface="Tahoma"/>
              </a:rPr>
              <a:t>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914400" y="2133720"/>
            <a:ext cx="7313760" cy="190476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imes New Roman"/>
              </a:rPr>
              <a:t>Analysis of Covariance</a:t>
            </a:r>
            <a:br>
              <a:rPr sz="4400"/>
            </a:br>
            <a:r>
              <a:rPr b="1" lang="en-US" sz="4400" spc="-1" strike="noStrike">
                <a:solidFill>
                  <a:srgbClr val="990099"/>
                </a:solidFill>
                <a:latin typeface="Times New Roman"/>
              </a:rPr>
              <a:t>(Regression Approach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2819520" y="4648320"/>
            <a:ext cx="3504960" cy="91440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Tahoma"/>
              </a:rPr>
              <a:t>b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Tahoma"/>
              </a:rPr>
              <a:t>Julia Hartma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AutoShape 20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66E4-1123-47D0-88A7-B2A8B7786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Picture 2" descr="C:\BCT 689\PowerPoint\spss gifs\mlr\regress3.gif"/>
          <p:cNvPicPr/>
          <p:nvPr/>
        </p:nvPicPr>
        <p:blipFill>
          <a:blip r:embed="rId1"/>
          <a:srcRect l="3638" t="0" r="0" b="1351"/>
          <a:stretch/>
        </p:blipFill>
        <p:spPr>
          <a:xfrm>
            <a:off x="4572000" y="2971800"/>
            <a:ext cx="4119480" cy="20192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tarting the Procedur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762120" y="274176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 the menu, click on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A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nalyz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066680" y="52578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…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d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lick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762120" y="36561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to 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R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egress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762120" y="45720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to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L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nea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AutoShape 8">
            <a:hlinkClick r:id="" action="ppaction://hlinkshowjump?jump=nextslide"/>
          </p:cNvPr>
          <p:cNvSpPr/>
          <p:nvPr/>
        </p:nvSpPr>
        <p:spPr>
          <a:xfrm>
            <a:off x="6400800" y="4343400"/>
            <a:ext cx="2057400" cy="304920"/>
          </a:xfrm>
          <a:custGeom>
            <a:avLst/>
            <a:gdLst>
              <a:gd name="textAreaLeft" fmla="*/ 19440 w 2057400"/>
              <a:gd name="textAreaRight" fmla="*/ 2037960 w 20574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5596" h="21600">
                <a:moveTo>
                  <a:pt x="0" y="0"/>
                </a:moveTo>
                <a:lnTo>
                  <a:pt x="145596" y="0"/>
                </a:lnTo>
                <a:lnTo>
                  <a:pt x="145596" y="21600"/>
                </a:lnTo>
                <a:lnTo>
                  <a:pt x="0" y="21600"/>
                </a:lnTo>
                <a:close/>
              </a:path>
              <a:path fill="lightenLess" w="145596" h="21600">
                <a:moveTo>
                  <a:pt x="0" y="0"/>
                </a:moveTo>
                <a:lnTo>
                  <a:pt x="145596" y="0"/>
                </a:lnTo>
                <a:lnTo>
                  <a:pt x="144196" y="1400"/>
                </a:lnTo>
                <a:lnTo>
                  <a:pt x="1400" y="1400"/>
                </a:lnTo>
                <a:close/>
              </a:path>
              <a:path fill="darken" w="145596" h="21600">
                <a:moveTo>
                  <a:pt x="145596" y="0"/>
                </a:moveTo>
                <a:lnTo>
                  <a:pt x="145596" y="21600"/>
                </a:lnTo>
                <a:lnTo>
                  <a:pt x="144196" y="20200"/>
                </a:lnTo>
                <a:lnTo>
                  <a:pt x="144196" y="1400"/>
                </a:lnTo>
                <a:close/>
              </a:path>
              <a:path fill="darkenLess" w="145596" h="21600">
                <a:moveTo>
                  <a:pt x="145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4196" y="20200"/>
                </a:lnTo>
                <a:close/>
              </a:path>
              <a:path fill="lighten" w="145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E47F-5E69-472E-B23E-84EB4CCE8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3" name="Picture 2" descr="C:\BCT 689\PowerPoint\spss gifs\mlr\regress4.gif"/>
          <p:cNvPicPr/>
          <p:nvPr/>
        </p:nvPicPr>
        <p:blipFill>
          <a:blip r:embed="rId1"/>
          <a:stretch/>
        </p:blipFill>
        <p:spPr>
          <a:xfrm>
            <a:off x="611280" y="2192400"/>
            <a:ext cx="4570200" cy="34718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483160" y="21337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hoose the variables for analysis from the  list in the variable box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AutoShape 5">
            <a:hlinkClick r:id="" action="ppaction://hlinkshowjump?jump=nextslide"/>
          </p:cNvPr>
          <p:cNvSpPr/>
          <p:nvPr/>
        </p:nvSpPr>
        <p:spPr>
          <a:xfrm>
            <a:off x="2133720" y="35812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5483160" y="3508200"/>
            <a:ext cx="365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ove 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MATRICULATON DATE - YEA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which is already highlighted, to the box labeled</a:t>
            </a:r>
            <a:br>
              <a:rPr sz="2400"/>
            </a:b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I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ndependent(s)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y clicking the arrow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72E7-4CA6-42E6-B0D9-6F9D2BD16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0" name="Picture 1026" descr="C:\BCT 689\PowerPoint\spss gifs\mlr\matyr2.gif"/>
          <p:cNvPicPr/>
          <p:nvPr/>
        </p:nvPicPr>
        <p:blipFill>
          <a:blip r:embed="rId1"/>
          <a:stretch/>
        </p:blipFill>
        <p:spPr>
          <a:xfrm>
            <a:off x="611280" y="2192400"/>
            <a:ext cx="4570200" cy="34336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 </a:t>
            </a:r>
            <a:br>
              <a:rPr sz="4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32" name="AutoShape 1028">
            <a:hlinkClick r:id="" action="ppaction://hlinkshowjump?jump=nextslide"/>
          </p:cNvPr>
          <p:cNvSpPr/>
          <p:nvPr/>
        </p:nvSpPr>
        <p:spPr>
          <a:xfrm>
            <a:off x="1752480" y="2590920"/>
            <a:ext cx="228600" cy="243828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438280"/>
              <a:gd name="textAreaBottom" fmla="*/ 2423520 h 2438280"/>
            </a:gdLst>
            <a:ahLst/>
            <a:rect l="textAreaLeft" t="textAreaTop" r="textAreaRight" b="textAreaBottom"/>
            <a:pathLst>
              <a:path w="21600" h="230060">
                <a:moveTo>
                  <a:pt x="0" y="0"/>
                </a:moveTo>
                <a:lnTo>
                  <a:pt x="21600" y="0"/>
                </a:lnTo>
                <a:lnTo>
                  <a:pt x="21600" y="230060"/>
                </a:lnTo>
                <a:lnTo>
                  <a:pt x="0" y="230060"/>
                </a:lnTo>
                <a:close/>
              </a:path>
              <a:path fill="lightenLess" w="21600" h="2300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060">
                <a:moveTo>
                  <a:pt x="21600" y="0"/>
                </a:moveTo>
                <a:lnTo>
                  <a:pt x="21600" y="230060"/>
                </a:lnTo>
                <a:lnTo>
                  <a:pt x="20200" y="228660"/>
                </a:lnTo>
                <a:lnTo>
                  <a:pt x="20200" y="1400"/>
                </a:lnTo>
                <a:close/>
              </a:path>
              <a:path fill="darkenLess" w="21600" h="230060">
                <a:moveTo>
                  <a:pt x="21600" y="230060"/>
                </a:moveTo>
                <a:lnTo>
                  <a:pt x="0" y="230060"/>
                </a:lnTo>
                <a:lnTo>
                  <a:pt x="1400" y="228660"/>
                </a:lnTo>
                <a:lnTo>
                  <a:pt x="20200" y="228660"/>
                </a:lnTo>
                <a:close/>
              </a:path>
              <a:path fill="lighten" w="21600" h="230060">
                <a:moveTo>
                  <a:pt x="0" y="2300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66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Text Box 1029"/>
          <p:cNvSpPr/>
          <p:nvPr/>
        </p:nvSpPr>
        <p:spPr>
          <a:xfrm>
            <a:off x="5410080" y="2209680"/>
            <a:ext cx="352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roll down the variable list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C69E-27F5-4EF3-90A9-0CE0E64CA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6" name="Picture 2" descr="C:\BCT 689\PowerPoint\spss gifs\mlr\matyr3.gif"/>
          <p:cNvPicPr/>
          <p:nvPr/>
        </p:nvPicPr>
        <p:blipFill>
          <a:blip r:embed="rId1"/>
          <a:stretch/>
        </p:blipFill>
        <p:spPr>
          <a:xfrm>
            <a:off x="611280" y="2192400"/>
            <a:ext cx="4570200" cy="34336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 </a:t>
            </a:r>
            <a:br>
              <a:rPr sz="4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38" name="AutoShape 4">
            <a:hlinkClick r:id="" action="ppaction://hlinkshowjump?jump=nextslide"/>
          </p:cNvPr>
          <p:cNvSpPr/>
          <p:nvPr/>
        </p:nvSpPr>
        <p:spPr>
          <a:xfrm>
            <a:off x="762120" y="3048120"/>
            <a:ext cx="1143000" cy="30456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80994" h="21600">
                <a:moveTo>
                  <a:pt x="0" y="0"/>
                </a:moveTo>
                <a:lnTo>
                  <a:pt x="80994" y="0"/>
                </a:lnTo>
                <a:lnTo>
                  <a:pt x="80994" y="21600"/>
                </a:lnTo>
                <a:lnTo>
                  <a:pt x="0" y="21600"/>
                </a:lnTo>
                <a:close/>
              </a:path>
              <a:path fill="lightenLess" w="80994" h="21600">
                <a:moveTo>
                  <a:pt x="0" y="0"/>
                </a:moveTo>
                <a:lnTo>
                  <a:pt x="80994" y="0"/>
                </a:lnTo>
                <a:lnTo>
                  <a:pt x="79594" y="1400"/>
                </a:lnTo>
                <a:lnTo>
                  <a:pt x="1400" y="1400"/>
                </a:lnTo>
                <a:close/>
              </a:path>
              <a:path fill="darken" w="80994" h="21600">
                <a:moveTo>
                  <a:pt x="80994" y="0"/>
                </a:moveTo>
                <a:lnTo>
                  <a:pt x="80994" y="21600"/>
                </a:lnTo>
                <a:lnTo>
                  <a:pt x="79594" y="20200"/>
                </a:lnTo>
                <a:lnTo>
                  <a:pt x="79594" y="1400"/>
                </a:lnTo>
                <a:close/>
              </a:path>
              <a:path fill="darkenLess" w="80994" h="21600">
                <a:moveTo>
                  <a:pt x="80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94" y="20200"/>
                </a:lnTo>
                <a:close/>
              </a:path>
              <a:path fill="lighten" w="80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5483160" y="2209680"/>
            <a:ext cx="32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roll down the variable list, point to the variable labeled</a:t>
            </a:r>
            <a:br>
              <a:rPr sz="2800"/>
            </a:b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MCAT TOTAL 1992-PRESENT, MOST RECENT [nmtot1]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587C-6353-4944-AB25-31C797F62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2" name="Picture 7" descr="C:\BCT 689\PowerPoint\spss gifs\ancova regr\ancova01.gif"/>
          <p:cNvPicPr/>
          <p:nvPr/>
        </p:nvPicPr>
        <p:blipFill>
          <a:blip r:embed="rId1"/>
          <a:stretch/>
        </p:blipFill>
        <p:spPr>
          <a:xfrm>
            <a:off x="611280" y="2192400"/>
            <a:ext cx="4570200" cy="34434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 </a:t>
            </a:r>
            <a:br>
              <a:rPr sz="4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44" name="AutoShape 4">
            <a:hlinkClick r:id="" action="ppaction://hlinkshowjump?jump=nextslide"/>
          </p:cNvPr>
          <p:cNvSpPr/>
          <p:nvPr/>
        </p:nvSpPr>
        <p:spPr>
          <a:xfrm>
            <a:off x="762120" y="3149640"/>
            <a:ext cx="1143000" cy="152280"/>
          </a:xfrm>
          <a:custGeom>
            <a:avLst/>
            <a:gdLst>
              <a:gd name="textAreaLeft" fmla="*/ 9720 w 1143000"/>
              <a:gd name="textAreaRight" fmla="*/ 1133280 w 11430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161796" h="21600">
                <a:moveTo>
                  <a:pt x="0" y="0"/>
                </a:moveTo>
                <a:lnTo>
                  <a:pt x="161796" y="0"/>
                </a:lnTo>
                <a:lnTo>
                  <a:pt x="161796" y="21600"/>
                </a:lnTo>
                <a:lnTo>
                  <a:pt x="0" y="21600"/>
                </a:lnTo>
                <a:close/>
              </a:path>
              <a:path fill="lightenLess" w="161796" h="21600">
                <a:moveTo>
                  <a:pt x="0" y="0"/>
                </a:moveTo>
                <a:lnTo>
                  <a:pt x="161796" y="0"/>
                </a:lnTo>
                <a:lnTo>
                  <a:pt x="160396" y="1400"/>
                </a:lnTo>
                <a:lnTo>
                  <a:pt x="1400" y="1400"/>
                </a:lnTo>
                <a:close/>
              </a:path>
              <a:path fill="darken" w="161796" h="21600">
                <a:moveTo>
                  <a:pt x="161796" y="0"/>
                </a:moveTo>
                <a:lnTo>
                  <a:pt x="161796" y="21600"/>
                </a:lnTo>
                <a:lnTo>
                  <a:pt x="160396" y="20200"/>
                </a:lnTo>
                <a:lnTo>
                  <a:pt x="160396" y="1400"/>
                </a:lnTo>
                <a:close/>
              </a:path>
              <a:path fill="darkenLess" w="161796" h="21600">
                <a:moveTo>
                  <a:pt x="161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0396" y="20200"/>
                </a:lnTo>
                <a:close/>
              </a:path>
              <a:path fill="lighten" w="161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6172200" y="45259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d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lick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5483160" y="2209680"/>
            <a:ext cx="32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roll down the variable list, point to the variable labeled</a:t>
            </a:r>
            <a:br>
              <a:rPr sz="2800"/>
            </a:b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MCAT TOTAL 1992-PRESENT, MOST RECENT [nmtot1]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65D5-8A82-41DF-BA00-6A014440A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9" name="Picture 6" descr="C:\BCT 689\PowerPoint\spss gifs\ancova regr\ancova02.gif"/>
          <p:cNvPicPr/>
          <p:nvPr/>
        </p:nvPicPr>
        <p:blipFill>
          <a:blip r:embed="rId1"/>
          <a:stretch/>
        </p:blipFill>
        <p:spPr>
          <a:xfrm>
            <a:off x="611280" y="2192400"/>
            <a:ext cx="4570200" cy="34434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410080" y="2513160"/>
            <a:ext cx="34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v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nmtot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o the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D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ependent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x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y clicking the arrow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AutoShape 5">
            <a:hlinkClick r:id="" action="ppaction://hlinkshowjump?jump=nextslide"/>
          </p:cNvPr>
          <p:cNvSpPr/>
          <p:nvPr/>
        </p:nvSpPr>
        <p:spPr>
          <a:xfrm>
            <a:off x="2133720" y="25909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4A25-A236-415D-998C-A28E09396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5" name="Picture 2" descr="C:\BCT 689\PowerPoint\spss gifs\mlr\matyr6.gif"/>
          <p:cNvPicPr/>
          <p:nvPr/>
        </p:nvPicPr>
        <p:blipFill>
          <a:blip r:embed="rId1"/>
          <a:stretch/>
        </p:blipFill>
        <p:spPr>
          <a:xfrm>
            <a:off x="611280" y="2192400"/>
            <a:ext cx="4570200" cy="34434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57" name="AutoShape 4">
            <a:hlinkClick r:id="" action="ppaction://hlinkshowjump?jump=nextslide"/>
          </p:cNvPr>
          <p:cNvSpPr/>
          <p:nvPr/>
        </p:nvSpPr>
        <p:spPr>
          <a:xfrm>
            <a:off x="1752480" y="2514600"/>
            <a:ext cx="228600" cy="2590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590920"/>
              <a:gd name="textAreaBottom" fmla="*/ 2576160 h 2590920"/>
            </a:gdLst>
            <a:ahLst/>
            <a:rect l="textAreaLeft" t="textAreaTop" r="textAreaRight" b="textAreaBottom"/>
            <a:pathLst>
              <a:path w="21600" h="244460">
                <a:moveTo>
                  <a:pt x="0" y="0"/>
                </a:moveTo>
                <a:lnTo>
                  <a:pt x="21600" y="0"/>
                </a:lnTo>
                <a:lnTo>
                  <a:pt x="21600" y="244460"/>
                </a:lnTo>
                <a:lnTo>
                  <a:pt x="0" y="244460"/>
                </a:lnTo>
                <a:close/>
              </a:path>
              <a:path fill="lightenLess" w="21600" h="2444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460">
                <a:moveTo>
                  <a:pt x="21600" y="0"/>
                </a:moveTo>
                <a:lnTo>
                  <a:pt x="21600" y="244460"/>
                </a:lnTo>
                <a:lnTo>
                  <a:pt x="20200" y="243060"/>
                </a:lnTo>
                <a:lnTo>
                  <a:pt x="20200" y="1400"/>
                </a:lnTo>
                <a:close/>
              </a:path>
              <a:path fill="darkenLess" w="21600" h="244460">
                <a:moveTo>
                  <a:pt x="21600" y="244460"/>
                </a:moveTo>
                <a:lnTo>
                  <a:pt x="0" y="244460"/>
                </a:lnTo>
                <a:lnTo>
                  <a:pt x="1400" y="243060"/>
                </a:lnTo>
                <a:lnTo>
                  <a:pt x="20200" y="243060"/>
                </a:lnTo>
                <a:close/>
              </a:path>
              <a:path fill="lighten" w="21600" h="244460">
                <a:moveTo>
                  <a:pt x="0" y="2444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06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5486400" y="251316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roll to the bottom of the list,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9965-FA84-4D52-8589-60E2CDD08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1" name="Picture 7" descr="C:\BCT 689\PowerPoint\spss gifs\ancova regr\ancova04.gif"/>
          <p:cNvPicPr/>
          <p:nvPr/>
        </p:nvPicPr>
        <p:blipFill>
          <a:blip r:embed="rId1"/>
          <a:stretch/>
        </p:blipFill>
        <p:spPr>
          <a:xfrm>
            <a:off x="611280" y="2192400"/>
            <a:ext cx="4570200" cy="34434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63" name="AutoShape 5">
            <a:hlinkClick r:id="" action="ppaction://hlinkshowjump?jump=nextslide"/>
          </p:cNvPr>
          <p:cNvSpPr/>
          <p:nvPr/>
        </p:nvSpPr>
        <p:spPr>
          <a:xfrm>
            <a:off x="762120" y="4597560"/>
            <a:ext cx="533160" cy="190440"/>
          </a:xfrm>
          <a:custGeom>
            <a:avLst/>
            <a:gdLst>
              <a:gd name="textAreaLeft" fmla="*/ 12240 w 533160"/>
              <a:gd name="textAreaRight" fmla="*/ 520920 w 533160"/>
              <a:gd name="textAreaTop" fmla="*/ 12240 h 190440"/>
              <a:gd name="textAreaBottom" fmla="*/ 178200 h 190440"/>
            </a:gdLst>
            <a:ahLst/>
            <a:rect l="textAreaLeft" t="textAreaTop" r="textAreaRight" b="textAreaBottom"/>
            <a:pathLst>
              <a:path w="60398" h="21600">
                <a:moveTo>
                  <a:pt x="0" y="0"/>
                </a:moveTo>
                <a:lnTo>
                  <a:pt x="60398" y="0"/>
                </a:lnTo>
                <a:lnTo>
                  <a:pt x="60398" y="21600"/>
                </a:lnTo>
                <a:lnTo>
                  <a:pt x="0" y="21600"/>
                </a:lnTo>
                <a:close/>
              </a:path>
              <a:path fill="lightenLess" w="60398" h="21600">
                <a:moveTo>
                  <a:pt x="0" y="0"/>
                </a:moveTo>
                <a:lnTo>
                  <a:pt x="60398" y="0"/>
                </a:lnTo>
                <a:lnTo>
                  <a:pt x="58999" y="1400"/>
                </a:lnTo>
                <a:lnTo>
                  <a:pt x="1400" y="1400"/>
                </a:lnTo>
                <a:close/>
              </a:path>
              <a:path fill="darken" w="60398" h="21600">
                <a:moveTo>
                  <a:pt x="60398" y="0"/>
                </a:moveTo>
                <a:lnTo>
                  <a:pt x="60398" y="21600"/>
                </a:lnTo>
                <a:lnTo>
                  <a:pt x="58999" y="20200"/>
                </a:lnTo>
                <a:lnTo>
                  <a:pt x="58999" y="1400"/>
                </a:lnTo>
                <a:close/>
              </a:path>
              <a:path fill="darkenLess" w="60398" h="21600">
                <a:moveTo>
                  <a:pt x="60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99" y="20200"/>
                </a:lnTo>
                <a:close/>
              </a:path>
              <a:path fill="lighten" w="60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5486400" y="2513160"/>
            <a:ext cx="33526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roll to the bottom of the list, and click the dummy variabl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dmajor1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EA84-AB25-45FF-B894-D9BE524FE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7" name="Picture 6" descr="C:\BCT 689\PowerPoint\spss gifs\ancova regr\ancova05.gif"/>
          <p:cNvPicPr/>
          <p:nvPr/>
        </p:nvPicPr>
        <p:blipFill>
          <a:blip r:embed="rId1"/>
          <a:stretch/>
        </p:blipFill>
        <p:spPr>
          <a:xfrm>
            <a:off x="611280" y="2192400"/>
            <a:ext cx="4570200" cy="34434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69" name="AutoShape 4">
            <a:hlinkClick r:id="" action="ppaction://hlinkshowjump?jump=nextslide"/>
          </p:cNvPr>
          <p:cNvSpPr/>
          <p:nvPr/>
        </p:nvSpPr>
        <p:spPr>
          <a:xfrm>
            <a:off x="762120" y="4737240"/>
            <a:ext cx="1066680" cy="215640"/>
          </a:xfrm>
          <a:custGeom>
            <a:avLst/>
            <a:gdLst>
              <a:gd name="textAreaLeft" fmla="*/ 13680 w 1066680"/>
              <a:gd name="textAreaRight" fmla="*/ 1053000 w 10666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6704" h="21600">
                <a:moveTo>
                  <a:pt x="0" y="0"/>
                </a:moveTo>
                <a:lnTo>
                  <a:pt x="106704" y="0"/>
                </a:lnTo>
                <a:lnTo>
                  <a:pt x="106704" y="21600"/>
                </a:lnTo>
                <a:lnTo>
                  <a:pt x="0" y="21600"/>
                </a:lnTo>
                <a:close/>
              </a:path>
              <a:path fill="lightenLess" w="106704" h="21600">
                <a:moveTo>
                  <a:pt x="0" y="0"/>
                </a:moveTo>
                <a:lnTo>
                  <a:pt x="106704" y="0"/>
                </a:lnTo>
                <a:lnTo>
                  <a:pt x="105304" y="1400"/>
                </a:lnTo>
                <a:lnTo>
                  <a:pt x="1400" y="1400"/>
                </a:lnTo>
                <a:close/>
              </a:path>
              <a:path fill="darken" w="106704" h="21600">
                <a:moveTo>
                  <a:pt x="106704" y="0"/>
                </a:moveTo>
                <a:lnTo>
                  <a:pt x="106704" y="21600"/>
                </a:lnTo>
                <a:lnTo>
                  <a:pt x="105304" y="20200"/>
                </a:lnTo>
                <a:lnTo>
                  <a:pt x="105304" y="1400"/>
                </a:lnTo>
                <a:close/>
              </a:path>
              <a:path fill="darkenLess" w="106704" h="21600">
                <a:moveTo>
                  <a:pt x="10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5304" y="20200"/>
                </a:lnTo>
                <a:close/>
              </a:path>
              <a:path fill="lighten" w="10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5486400" y="2513160"/>
            <a:ext cx="3352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lect both dummy variables by holding down the </a:t>
            </a: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Shif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key and clicking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dmajor2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7DAE-E924-4FF3-A0E2-BF9D54926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3" name="Picture 6" descr="C:\BCT 689\PowerPoint\spss gifs\ancova regr\ancova06.gif"/>
          <p:cNvPicPr/>
          <p:nvPr/>
        </p:nvPicPr>
        <p:blipFill>
          <a:blip r:embed="rId1"/>
          <a:stretch/>
        </p:blipFill>
        <p:spPr>
          <a:xfrm>
            <a:off x="611280" y="2192400"/>
            <a:ext cx="4570200" cy="34434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5486400" y="2514600"/>
            <a:ext cx="3200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ve both dummy variables (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dmajor1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d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dmajor2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 to the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x labeled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I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ndependent(s):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y clicking the arrow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AutoShape 5">
            <a:hlinkClick r:id="" action="ppaction://hlinkshowjump?jump=nextslide"/>
          </p:cNvPr>
          <p:cNvSpPr/>
          <p:nvPr/>
        </p:nvSpPr>
        <p:spPr>
          <a:xfrm>
            <a:off x="2133720" y="358128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B2D0-6F4C-4827-8223-479B71D31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609480" y="2297160"/>
            <a:ext cx="784872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alysis of Covariance (ANCOVA) is used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8040" indent="-33804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assess the joint significance of predictors on a continuous outcome (GLM approach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8040" indent="-33804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generate prediction equations for various levels of a categorical predictor (regression approach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AutoShape 5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8E4F-F488-4795-8A2E-C77046116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9" name="Picture 6" descr="C:\BCT 689\PowerPoint\spss gifs\ancova regr\ancova07.gif"/>
          <p:cNvPicPr/>
          <p:nvPr/>
        </p:nvPicPr>
        <p:blipFill>
          <a:blip r:embed="rId1"/>
          <a:stretch/>
        </p:blipFill>
        <p:spPr>
          <a:xfrm>
            <a:off x="611280" y="2192400"/>
            <a:ext cx="4570200" cy="34336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2"/>
          <p:cNvSpPr/>
          <p:nvPr/>
        </p:nvSpPr>
        <p:spPr>
          <a:xfrm>
            <a:off x="5483160" y="2513160"/>
            <a:ext cx="343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h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OK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utton to run the ANCOVA (regression approach)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Run the Analysi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82" name="AutoShape 5">
            <a:hlinkClick r:id="" action="ppaction://hlinkshowjump?jump=nextslide"/>
          </p:cNvPr>
          <p:cNvSpPr/>
          <p:nvPr/>
        </p:nvSpPr>
        <p:spPr>
          <a:xfrm>
            <a:off x="4648320" y="246384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6216-8747-435A-B385-FD3A5E180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 Output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Variables Entered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86" name="AutoShape 3">
            <a:hlinkClick r:id="" action="ppaction://hlinkshowjump?jump=nextslide"/>
          </p:cNvPr>
          <p:cNvSpPr/>
          <p:nvPr/>
        </p:nvSpPr>
        <p:spPr>
          <a:xfrm>
            <a:off x="4191120" y="3200400"/>
            <a:ext cx="761760" cy="228600"/>
          </a:xfrm>
          <a:custGeom>
            <a:avLst/>
            <a:gdLst>
              <a:gd name="textAreaLeft" fmla="*/ 14760 w 761760"/>
              <a:gd name="textAreaRight" fmla="*/ 747000 w 761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898" h="21600">
                <a:moveTo>
                  <a:pt x="0" y="0"/>
                </a:moveTo>
                <a:lnTo>
                  <a:pt x="71898" y="0"/>
                </a:lnTo>
                <a:lnTo>
                  <a:pt x="71898" y="21600"/>
                </a:lnTo>
                <a:lnTo>
                  <a:pt x="0" y="21600"/>
                </a:lnTo>
                <a:close/>
              </a:path>
              <a:path fill="lightenLess" w="71898" h="21600">
                <a:moveTo>
                  <a:pt x="0" y="0"/>
                </a:moveTo>
                <a:lnTo>
                  <a:pt x="71898" y="0"/>
                </a:lnTo>
                <a:lnTo>
                  <a:pt x="70498" y="1400"/>
                </a:lnTo>
                <a:lnTo>
                  <a:pt x="1400" y="1400"/>
                </a:lnTo>
                <a:close/>
              </a:path>
              <a:path fill="darken" w="71898" h="21600">
                <a:moveTo>
                  <a:pt x="71898" y="0"/>
                </a:moveTo>
                <a:lnTo>
                  <a:pt x="71898" y="21600"/>
                </a:lnTo>
                <a:lnTo>
                  <a:pt x="70498" y="20200"/>
                </a:lnTo>
                <a:lnTo>
                  <a:pt x="70498" y="1400"/>
                </a:lnTo>
                <a:close/>
              </a:path>
              <a:path fill="darkenLess" w="71898" h="21600">
                <a:moveTo>
                  <a:pt x="71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98" y="20200"/>
                </a:lnTo>
                <a:close/>
              </a:path>
              <a:path fill="lighten" w="71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5867280" y="2820960"/>
            <a:ext cx="2743200" cy="1557000"/>
          </a:xfrm>
          <a:prstGeom prst="rect">
            <a:avLst/>
          </a:prstGeom>
          <a:solidFill>
            <a:srgbClr val="800080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labels and format of your output may be somewhat different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AutoShape 6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0" name="Picture 8" descr="C:\BCT 689\PowerPoint\spss gifs\ancova regr\output1.gif"/>
          <p:cNvPicPr/>
          <p:nvPr/>
        </p:nvPicPr>
        <p:blipFill>
          <a:blip r:embed="rId1"/>
          <a:stretch/>
        </p:blipFill>
        <p:spPr>
          <a:xfrm>
            <a:off x="611280" y="2286000"/>
            <a:ext cx="4994280" cy="28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3502-6EBE-4D9E-B4E4-858989E8F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 Output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Model Summary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94" name="AutoShape 3">
            <a:hlinkClick r:id="" action="ppaction://hlinkshowjump?jump=nextslide"/>
          </p:cNvPr>
          <p:cNvSpPr/>
          <p:nvPr/>
        </p:nvSpPr>
        <p:spPr>
          <a:xfrm>
            <a:off x="4191120" y="3200400"/>
            <a:ext cx="761760" cy="228600"/>
          </a:xfrm>
          <a:custGeom>
            <a:avLst/>
            <a:gdLst>
              <a:gd name="textAreaLeft" fmla="*/ 14760 w 761760"/>
              <a:gd name="textAreaRight" fmla="*/ 747000 w 761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898" h="21600">
                <a:moveTo>
                  <a:pt x="0" y="0"/>
                </a:moveTo>
                <a:lnTo>
                  <a:pt x="71898" y="0"/>
                </a:lnTo>
                <a:lnTo>
                  <a:pt x="71898" y="21600"/>
                </a:lnTo>
                <a:lnTo>
                  <a:pt x="0" y="21600"/>
                </a:lnTo>
                <a:close/>
              </a:path>
              <a:path fill="lightenLess" w="71898" h="21600">
                <a:moveTo>
                  <a:pt x="0" y="0"/>
                </a:moveTo>
                <a:lnTo>
                  <a:pt x="71898" y="0"/>
                </a:lnTo>
                <a:lnTo>
                  <a:pt x="70498" y="1400"/>
                </a:lnTo>
                <a:lnTo>
                  <a:pt x="1400" y="1400"/>
                </a:lnTo>
                <a:close/>
              </a:path>
              <a:path fill="darken" w="71898" h="21600">
                <a:moveTo>
                  <a:pt x="71898" y="0"/>
                </a:moveTo>
                <a:lnTo>
                  <a:pt x="71898" y="21600"/>
                </a:lnTo>
                <a:lnTo>
                  <a:pt x="70498" y="20200"/>
                </a:lnTo>
                <a:lnTo>
                  <a:pt x="70498" y="1400"/>
                </a:lnTo>
                <a:close/>
              </a:path>
              <a:path fill="darkenLess" w="71898" h="21600">
                <a:moveTo>
                  <a:pt x="71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98" y="20200"/>
                </a:lnTo>
                <a:close/>
              </a:path>
              <a:path fill="lighten" w="71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AutoShape 5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7" name="Picture 7" descr="C:\BCT 689\PowerPoint\spss gifs\ancova regr\output2.gif"/>
          <p:cNvPicPr/>
          <p:nvPr/>
        </p:nvPicPr>
        <p:blipFill>
          <a:blip r:embed="rId1"/>
          <a:stretch/>
        </p:blipFill>
        <p:spPr>
          <a:xfrm>
            <a:off x="2411280" y="2662200"/>
            <a:ext cx="4321440" cy="153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6F7E-422F-452F-B722-B69DC950B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 Output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ANOVA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01" name="AutoShape 3">
            <a:hlinkClick r:id="" action="ppaction://hlinkshowjump?jump=nextslide"/>
          </p:cNvPr>
          <p:cNvSpPr/>
          <p:nvPr/>
        </p:nvSpPr>
        <p:spPr>
          <a:xfrm>
            <a:off x="4191120" y="3200400"/>
            <a:ext cx="761760" cy="228600"/>
          </a:xfrm>
          <a:custGeom>
            <a:avLst/>
            <a:gdLst>
              <a:gd name="textAreaLeft" fmla="*/ 14760 w 761760"/>
              <a:gd name="textAreaRight" fmla="*/ 747000 w 761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898" h="21600">
                <a:moveTo>
                  <a:pt x="0" y="0"/>
                </a:moveTo>
                <a:lnTo>
                  <a:pt x="71898" y="0"/>
                </a:lnTo>
                <a:lnTo>
                  <a:pt x="71898" y="21600"/>
                </a:lnTo>
                <a:lnTo>
                  <a:pt x="0" y="21600"/>
                </a:lnTo>
                <a:close/>
              </a:path>
              <a:path fill="lightenLess" w="71898" h="21600">
                <a:moveTo>
                  <a:pt x="0" y="0"/>
                </a:moveTo>
                <a:lnTo>
                  <a:pt x="71898" y="0"/>
                </a:lnTo>
                <a:lnTo>
                  <a:pt x="70498" y="1400"/>
                </a:lnTo>
                <a:lnTo>
                  <a:pt x="1400" y="1400"/>
                </a:lnTo>
                <a:close/>
              </a:path>
              <a:path fill="darken" w="71898" h="21600">
                <a:moveTo>
                  <a:pt x="71898" y="0"/>
                </a:moveTo>
                <a:lnTo>
                  <a:pt x="71898" y="21600"/>
                </a:lnTo>
                <a:lnTo>
                  <a:pt x="70498" y="20200"/>
                </a:lnTo>
                <a:lnTo>
                  <a:pt x="70498" y="1400"/>
                </a:lnTo>
                <a:close/>
              </a:path>
              <a:path fill="darkenLess" w="71898" h="21600">
                <a:moveTo>
                  <a:pt x="71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98" y="20200"/>
                </a:lnTo>
                <a:close/>
              </a:path>
              <a:path fill="lighten" w="71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AutoShape 5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4" name="Picture 7" descr="C:\BCT 689\PowerPoint\spss gifs\ancova regr\output3.gif"/>
          <p:cNvPicPr/>
          <p:nvPr/>
        </p:nvPicPr>
        <p:blipFill>
          <a:blip r:embed="rId1"/>
          <a:stretch/>
        </p:blipFill>
        <p:spPr>
          <a:xfrm>
            <a:off x="1503360" y="2343240"/>
            <a:ext cx="6137280" cy="21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A493-AAD4-4E94-A069-3BECB5FDB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 Output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Coefficient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08" name="AutoShape 3">
            <a:hlinkClick r:id="" action="ppaction://hlinkshowjump?jump=nextslide"/>
          </p:cNvPr>
          <p:cNvSpPr/>
          <p:nvPr/>
        </p:nvSpPr>
        <p:spPr>
          <a:xfrm>
            <a:off x="4191120" y="3200400"/>
            <a:ext cx="761760" cy="228600"/>
          </a:xfrm>
          <a:custGeom>
            <a:avLst/>
            <a:gdLst>
              <a:gd name="textAreaLeft" fmla="*/ 14760 w 761760"/>
              <a:gd name="textAreaRight" fmla="*/ 747000 w 761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898" h="21600">
                <a:moveTo>
                  <a:pt x="0" y="0"/>
                </a:moveTo>
                <a:lnTo>
                  <a:pt x="71898" y="0"/>
                </a:lnTo>
                <a:lnTo>
                  <a:pt x="71898" y="21600"/>
                </a:lnTo>
                <a:lnTo>
                  <a:pt x="0" y="21600"/>
                </a:lnTo>
                <a:close/>
              </a:path>
              <a:path fill="lightenLess" w="71898" h="21600">
                <a:moveTo>
                  <a:pt x="0" y="0"/>
                </a:moveTo>
                <a:lnTo>
                  <a:pt x="71898" y="0"/>
                </a:lnTo>
                <a:lnTo>
                  <a:pt x="70498" y="1400"/>
                </a:lnTo>
                <a:lnTo>
                  <a:pt x="1400" y="1400"/>
                </a:lnTo>
                <a:close/>
              </a:path>
              <a:path fill="darken" w="71898" h="21600">
                <a:moveTo>
                  <a:pt x="71898" y="0"/>
                </a:moveTo>
                <a:lnTo>
                  <a:pt x="71898" y="21600"/>
                </a:lnTo>
                <a:lnTo>
                  <a:pt x="70498" y="20200"/>
                </a:lnTo>
                <a:lnTo>
                  <a:pt x="70498" y="1400"/>
                </a:lnTo>
                <a:close/>
              </a:path>
              <a:path fill="darkenLess" w="71898" h="21600">
                <a:moveTo>
                  <a:pt x="71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98" y="20200"/>
                </a:lnTo>
                <a:close/>
              </a:path>
              <a:path fill="lighten" w="71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AutoShape 5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1" name="Picture 7" descr="C:\BCT 689\PowerPoint\spss gifs\ancova regr\output4.gif"/>
          <p:cNvPicPr/>
          <p:nvPr/>
        </p:nvPicPr>
        <p:blipFill>
          <a:blip r:embed="rId1"/>
          <a:stretch/>
        </p:blipFill>
        <p:spPr>
          <a:xfrm>
            <a:off x="1217520" y="2301840"/>
            <a:ext cx="6708960" cy="265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F3C9-EF58-4757-A3E0-35415CB0C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2600" y="533520"/>
            <a:ext cx="7313400" cy="1752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An Interactive Tutorial for </a:t>
            </a:r>
            <a:br>
              <a:rPr sz="3200"/>
            </a:b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SPSS 10.0 for Windows</a:t>
            </a:r>
            <a:r>
              <a:rPr b="0" lang="en-US" sz="3200" spc="-1" strike="noStrike" baseline="30000">
                <a:solidFill>
                  <a:srgbClr val="990099"/>
                </a:solidFill>
                <a:latin typeface="Times New Roman"/>
              </a:rPr>
              <a:t>©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:</a:t>
            </a:r>
            <a:br>
              <a:rPr sz="3200"/>
            </a:b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ANCOVA (Regression Approach)</a:t>
            </a:r>
            <a:endParaRPr b="0" lang="en-US" sz="32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219320" y="34290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7160">
              <a:spcBef>
                <a:spcPts val="20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peat this tutori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914400" y="25909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Click one of the following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1220760" y="41148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7160">
              <a:spcBef>
                <a:spcPts val="20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turn to the list of tutoria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AutoShape 6">
            <a:hlinkClick r:id="" action="ppaction://hlinkshowjump?jump=firstslide"/>
          </p:cNvPr>
          <p:cNvSpPr/>
          <p:nvPr/>
        </p:nvSpPr>
        <p:spPr>
          <a:xfrm>
            <a:off x="1447920" y="3429000"/>
            <a:ext cx="3352680" cy="533520"/>
          </a:xfrm>
          <a:custGeom>
            <a:avLst/>
            <a:gdLst>
              <a:gd name="textAreaLeft" fmla="*/ 34560 w 3352680"/>
              <a:gd name="textAreaRight" fmla="*/ 3318120 w 3352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35659" h="21600">
                <a:moveTo>
                  <a:pt x="0" y="0"/>
                </a:moveTo>
                <a:lnTo>
                  <a:pt x="135659" y="0"/>
                </a:lnTo>
                <a:lnTo>
                  <a:pt x="135659" y="21600"/>
                </a:lnTo>
                <a:lnTo>
                  <a:pt x="0" y="21600"/>
                </a:lnTo>
                <a:close/>
              </a:path>
              <a:path fill="lightenLess" w="135659" h="21600">
                <a:moveTo>
                  <a:pt x="0" y="0"/>
                </a:moveTo>
                <a:lnTo>
                  <a:pt x="135659" y="0"/>
                </a:lnTo>
                <a:lnTo>
                  <a:pt x="134259" y="1400"/>
                </a:lnTo>
                <a:lnTo>
                  <a:pt x="1400" y="1400"/>
                </a:lnTo>
                <a:close/>
              </a:path>
              <a:path fill="darken" w="135659" h="21600">
                <a:moveTo>
                  <a:pt x="135659" y="0"/>
                </a:moveTo>
                <a:lnTo>
                  <a:pt x="135659" y="21600"/>
                </a:lnTo>
                <a:lnTo>
                  <a:pt x="134259" y="20200"/>
                </a:lnTo>
                <a:lnTo>
                  <a:pt x="134259" y="1400"/>
                </a:lnTo>
                <a:close/>
              </a:path>
              <a:path fill="darkenLess" w="135659" h="21600">
                <a:moveTo>
                  <a:pt x="1356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4259" y="20200"/>
                </a:lnTo>
                <a:close/>
              </a:path>
              <a:path fill="lighten" w="1356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AutoShape 7"/>
          <p:cNvSpPr/>
          <p:nvPr/>
        </p:nvSpPr>
        <p:spPr>
          <a:xfrm>
            <a:off x="1447920" y="4114800"/>
            <a:ext cx="6933960" cy="457200"/>
          </a:xfrm>
          <a:custGeom>
            <a:avLst/>
            <a:gdLst>
              <a:gd name="textAreaLeft" fmla="*/ 29520 w 6933960"/>
              <a:gd name="textAreaRight" fmla="*/ 6904440 w 6933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7348" h="21600">
                <a:moveTo>
                  <a:pt x="0" y="0"/>
                </a:moveTo>
                <a:lnTo>
                  <a:pt x="327348" y="0"/>
                </a:lnTo>
                <a:lnTo>
                  <a:pt x="327348" y="21600"/>
                </a:lnTo>
                <a:lnTo>
                  <a:pt x="0" y="21600"/>
                </a:lnTo>
                <a:close/>
              </a:path>
              <a:path fill="lightenLess" w="327348" h="21600">
                <a:moveTo>
                  <a:pt x="0" y="0"/>
                </a:moveTo>
                <a:lnTo>
                  <a:pt x="327348" y="0"/>
                </a:lnTo>
                <a:lnTo>
                  <a:pt x="325948" y="1400"/>
                </a:lnTo>
                <a:lnTo>
                  <a:pt x="1400" y="1400"/>
                </a:lnTo>
                <a:close/>
              </a:path>
              <a:path fill="darken" w="327348" h="21600">
                <a:moveTo>
                  <a:pt x="327348" y="0"/>
                </a:moveTo>
                <a:lnTo>
                  <a:pt x="327348" y="21600"/>
                </a:lnTo>
                <a:lnTo>
                  <a:pt x="325948" y="20200"/>
                </a:lnTo>
                <a:lnTo>
                  <a:pt x="325948" y="1400"/>
                </a:lnTo>
                <a:close/>
              </a:path>
              <a:path fill="darkenLess" w="327348" h="21600">
                <a:moveTo>
                  <a:pt x="327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48" y="20200"/>
                </a:lnTo>
                <a:close/>
              </a:path>
              <a:path fill="lighten" w="327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1523880" y="4114800"/>
            <a:ext cx="4800600" cy="609480"/>
          </a:xfrm>
          <a:custGeom>
            <a:avLst/>
            <a:gdLst>
              <a:gd name="textAreaLeft" fmla="*/ 39240 w 4800600"/>
              <a:gd name="textAreaRight" fmla="*/ 4761360 w 48006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70046" h="21600">
                <a:moveTo>
                  <a:pt x="0" y="0"/>
                </a:moveTo>
                <a:lnTo>
                  <a:pt x="170046" y="0"/>
                </a:lnTo>
                <a:lnTo>
                  <a:pt x="170046" y="21600"/>
                </a:lnTo>
                <a:lnTo>
                  <a:pt x="0" y="21600"/>
                </a:lnTo>
                <a:close/>
              </a:path>
              <a:path fill="lightenLess" w="170046" h="21600">
                <a:moveTo>
                  <a:pt x="0" y="0"/>
                </a:moveTo>
                <a:lnTo>
                  <a:pt x="170046" y="0"/>
                </a:lnTo>
                <a:lnTo>
                  <a:pt x="168646" y="1400"/>
                </a:lnTo>
                <a:lnTo>
                  <a:pt x="1400" y="1400"/>
                </a:lnTo>
                <a:close/>
              </a:path>
              <a:path fill="darken" w="170046" h="21600">
                <a:moveTo>
                  <a:pt x="170046" y="0"/>
                </a:moveTo>
                <a:lnTo>
                  <a:pt x="170046" y="21600"/>
                </a:lnTo>
                <a:lnTo>
                  <a:pt x="168646" y="20200"/>
                </a:lnTo>
                <a:lnTo>
                  <a:pt x="168646" y="1400"/>
                </a:lnTo>
                <a:close/>
              </a:path>
              <a:path fill="darkenLess" w="170046" h="21600">
                <a:moveTo>
                  <a:pt x="170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646" y="20200"/>
                </a:lnTo>
                <a:close/>
              </a:path>
              <a:path fill="lighten" w="170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6FEC-13ED-4DD0-832B-64D973DE9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2600" y="533520"/>
            <a:ext cx="7313400" cy="1752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An Interactive Tutorial for </a:t>
            </a:r>
            <a:br>
              <a:rPr sz="3200"/>
            </a:b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SPSS 10.0 for Windows</a:t>
            </a:r>
            <a:r>
              <a:rPr b="0" lang="en-US" sz="3200" spc="-1" strike="noStrike" baseline="30000">
                <a:solidFill>
                  <a:srgbClr val="990099"/>
                </a:solidFill>
                <a:latin typeface="Times New Roman"/>
              </a:rPr>
              <a:t>©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:</a:t>
            </a:r>
            <a:br>
              <a:rPr sz="3200"/>
            </a:b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ANCOVA (GLM)</a:t>
            </a:r>
            <a:endParaRPr b="0" lang="en-US" sz="32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1219320" y="34290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7160">
              <a:spcBef>
                <a:spcPts val="20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peat this tutori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914400" y="25909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Click one of the following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220760" y="41148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7160">
              <a:spcBef>
                <a:spcPts val="20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turn to the list of tutoria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AutoShape 6">
            <a:hlinkClick r:id="" action="ppaction://hlinkshowjump?jump=firstslide"/>
          </p:cNvPr>
          <p:cNvSpPr/>
          <p:nvPr/>
        </p:nvSpPr>
        <p:spPr>
          <a:xfrm>
            <a:off x="1447920" y="3429000"/>
            <a:ext cx="3352680" cy="533520"/>
          </a:xfrm>
          <a:custGeom>
            <a:avLst/>
            <a:gdLst>
              <a:gd name="textAreaLeft" fmla="*/ 34560 w 3352680"/>
              <a:gd name="textAreaRight" fmla="*/ 3318120 w 3352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35659" h="21600">
                <a:moveTo>
                  <a:pt x="0" y="0"/>
                </a:moveTo>
                <a:lnTo>
                  <a:pt x="135659" y="0"/>
                </a:lnTo>
                <a:lnTo>
                  <a:pt x="135659" y="21600"/>
                </a:lnTo>
                <a:lnTo>
                  <a:pt x="0" y="21600"/>
                </a:lnTo>
                <a:close/>
              </a:path>
              <a:path fill="lightenLess" w="135659" h="21600">
                <a:moveTo>
                  <a:pt x="0" y="0"/>
                </a:moveTo>
                <a:lnTo>
                  <a:pt x="135659" y="0"/>
                </a:lnTo>
                <a:lnTo>
                  <a:pt x="134259" y="1400"/>
                </a:lnTo>
                <a:lnTo>
                  <a:pt x="1400" y="1400"/>
                </a:lnTo>
                <a:close/>
              </a:path>
              <a:path fill="darken" w="135659" h="21600">
                <a:moveTo>
                  <a:pt x="135659" y="0"/>
                </a:moveTo>
                <a:lnTo>
                  <a:pt x="135659" y="21600"/>
                </a:lnTo>
                <a:lnTo>
                  <a:pt x="134259" y="20200"/>
                </a:lnTo>
                <a:lnTo>
                  <a:pt x="134259" y="1400"/>
                </a:lnTo>
                <a:close/>
              </a:path>
              <a:path fill="darkenLess" w="135659" h="21600">
                <a:moveTo>
                  <a:pt x="1356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4259" y="20200"/>
                </a:lnTo>
                <a:close/>
              </a:path>
              <a:path fill="lighten" w="1356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AutoShape 7"/>
          <p:cNvSpPr/>
          <p:nvPr/>
        </p:nvSpPr>
        <p:spPr>
          <a:xfrm>
            <a:off x="1447920" y="4114800"/>
            <a:ext cx="6933960" cy="457200"/>
          </a:xfrm>
          <a:custGeom>
            <a:avLst/>
            <a:gdLst>
              <a:gd name="textAreaLeft" fmla="*/ 29520 w 6933960"/>
              <a:gd name="textAreaRight" fmla="*/ 6904440 w 6933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7348" h="21600">
                <a:moveTo>
                  <a:pt x="0" y="0"/>
                </a:moveTo>
                <a:lnTo>
                  <a:pt x="327348" y="0"/>
                </a:lnTo>
                <a:lnTo>
                  <a:pt x="327348" y="21600"/>
                </a:lnTo>
                <a:lnTo>
                  <a:pt x="0" y="21600"/>
                </a:lnTo>
                <a:close/>
              </a:path>
              <a:path fill="lightenLess" w="327348" h="21600">
                <a:moveTo>
                  <a:pt x="0" y="0"/>
                </a:moveTo>
                <a:lnTo>
                  <a:pt x="327348" y="0"/>
                </a:lnTo>
                <a:lnTo>
                  <a:pt x="325948" y="1400"/>
                </a:lnTo>
                <a:lnTo>
                  <a:pt x="1400" y="1400"/>
                </a:lnTo>
                <a:close/>
              </a:path>
              <a:path fill="darken" w="327348" h="21600">
                <a:moveTo>
                  <a:pt x="327348" y="0"/>
                </a:moveTo>
                <a:lnTo>
                  <a:pt x="327348" y="21600"/>
                </a:lnTo>
                <a:lnTo>
                  <a:pt x="325948" y="20200"/>
                </a:lnTo>
                <a:lnTo>
                  <a:pt x="325948" y="1400"/>
                </a:lnTo>
                <a:close/>
              </a:path>
              <a:path fill="darkenLess" w="327348" h="21600">
                <a:moveTo>
                  <a:pt x="327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48" y="20200"/>
                </a:lnTo>
                <a:close/>
              </a:path>
              <a:path fill="lighten" w="327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AutoShape 8"/>
          <p:cNvSpPr/>
          <p:nvPr/>
        </p:nvSpPr>
        <p:spPr>
          <a:xfrm>
            <a:off x="1523880" y="4114800"/>
            <a:ext cx="4800600" cy="609480"/>
          </a:xfrm>
          <a:custGeom>
            <a:avLst/>
            <a:gdLst>
              <a:gd name="textAreaLeft" fmla="*/ 39240 w 4800600"/>
              <a:gd name="textAreaRight" fmla="*/ 4761360 w 48006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70046" h="21600">
                <a:moveTo>
                  <a:pt x="0" y="0"/>
                </a:moveTo>
                <a:lnTo>
                  <a:pt x="170046" y="0"/>
                </a:lnTo>
                <a:lnTo>
                  <a:pt x="170046" y="21600"/>
                </a:lnTo>
                <a:lnTo>
                  <a:pt x="0" y="21600"/>
                </a:lnTo>
                <a:close/>
              </a:path>
              <a:path fill="lightenLess" w="170046" h="21600">
                <a:moveTo>
                  <a:pt x="0" y="0"/>
                </a:moveTo>
                <a:lnTo>
                  <a:pt x="170046" y="0"/>
                </a:lnTo>
                <a:lnTo>
                  <a:pt x="168646" y="1400"/>
                </a:lnTo>
                <a:lnTo>
                  <a:pt x="1400" y="1400"/>
                </a:lnTo>
                <a:close/>
              </a:path>
              <a:path fill="darken" w="170046" h="21600">
                <a:moveTo>
                  <a:pt x="170046" y="0"/>
                </a:moveTo>
                <a:lnTo>
                  <a:pt x="170046" y="21600"/>
                </a:lnTo>
                <a:lnTo>
                  <a:pt x="168646" y="20200"/>
                </a:lnTo>
                <a:lnTo>
                  <a:pt x="168646" y="1400"/>
                </a:lnTo>
                <a:close/>
              </a:path>
              <a:path fill="darkenLess" w="170046" h="21600">
                <a:moveTo>
                  <a:pt x="170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646" y="20200"/>
                </a:lnTo>
                <a:close/>
              </a:path>
              <a:path fill="lighten" w="170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4756-97DC-4915-9EBC-A2427088D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2600" y="533520"/>
            <a:ext cx="7313400" cy="1752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An Interactive Tutorial for </a:t>
            </a:r>
            <a:br>
              <a:rPr sz="3200"/>
            </a:b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SPSS 10.0 for Windows</a:t>
            </a:r>
            <a:r>
              <a:rPr b="0" lang="en-US" sz="3200" spc="-1" strike="noStrike" baseline="30000">
                <a:solidFill>
                  <a:srgbClr val="990099"/>
                </a:solidFill>
                <a:latin typeface="Times New Roman"/>
              </a:rPr>
              <a:t>©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:</a:t>
            </a:r>
            <a:br>
              <a:rPr sz="3200"/>
            </a:b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ANCOVA (Regression Approach)</a:t>
            </a:r>
            <a:endParaRPr b="0" lang="en-US" sz="32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1219320" y="34290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7160">
              <a:spcBef>
                <a:spcPts val="20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peat this tutori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914400" y="25909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Click one of the following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1220760" y="41148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7160">
              <a:spcBef>
                <a:spcPts val="20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turn to the list of tutoria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AutoShape 8">
            <a:hlinkClick r:id="" action="ppaction://hlinkshowjump?jump=firstslide"/>
          </p:cNvPr>
          <p:cNvSpPr/>
          <p:nvPr/>
        </p:nvSpPr>
        <p:spPr>
          <a:xfrm>
            <a:off x="1447920" y="3429000"/>
            <a:ext cx="3352680" cy="533520"/>
          </a:xfrm>
          <a:custGeom>
            <a:avLst/>
            <a:gdLst>
              <a:gd name="textAreaLeft" fmla="*/ 34560 w 3352680"/>
              <a:gd name="textAreaRight" fmla="*/ 3318120 w 3352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35659" h="21600">
                <a:moveTo>
                  <a:pt x="0" y="0"/>
                </a:moveTo>
                <a:lnTo>
                  <a:pt x="135659" y="0"/>
                </a:lnTo>
                <a:lnTo>
                  <a:pt x="135659" y="21600"/>
                </a:lnTo>
                <a:lnTo>
                  <a:pt x="0" y="21600"/>
                </a:lnTo>
                <a:close/>
              </a:path>
              <a:path fill="lightenLess" w="135659" h="21600">
                <a:moveTo>
                  <a:pt x="0" y="0"/>
                </a:moveTo>
                <a:lnTo>
                  <a:pt x="135659" y="0"/>
                </a:lnTo>
                <a:lnTo>
                  <a:pt x="134259" y="1400"/>
                </a:lnTo>
                <a:lnTo>
                  <a:pt x="1400" y="1400"/>
                </a:lnTo>
                <a:close/>
              </a:path>
              <a:path fill="darken" w="135659" h="21600">
                <a:moveTo>
                  <a:pt x="135659" y="0"/>
                </a:moveTo>
                <a:lnTo>
                  <a:pt x="135659" y="21600"/>
                </a:lnTo>
                <a:lnTo>
                  <a:pt x="134259" y="20200"/>
                </a:lnTo>
                <a:lnTo>
                  <a:pt x="134259" y="1400"/>
                </a:lnTo>
                <a:close/>
              </a:path>
              <a:path fill="darkenLess" w="135659" h="21600">
                <a:moveTo>
                  <a:pt x="1356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4259" y="20200"/>
                </a:lnTo>
                <a:close/>
              </a:path>
              <a:path fill="lighten" w="1356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AutoShape 9"/>
          <p:cNvSpPr/>
          <p:nvPr/>
        </p:nvSpPr>
        <p:spPr>
          <a:xfrm>
            <a:off x="1447920" y="4114800"/>
            <a:ext cx="6933960" cy="457200"/>
          </a:xfrm>
          <a:custGeom>
            <a:avLst/>
            <a:gdLst>
              <a:gd name="textAreaLeft" fmla="*/ 29520 w 6933960"/>
              <a:gd name="textAreaRight" fmla="*/ 6904440 w 6933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7348" h="21600">
                <a:moveTo>
                  <a:pt x="0" y="0"/>
                </a:moveTo>
                <a:lnTo>
                  <a:pt x="327348" y="0"/>
                </a:lnTo>
                <a:lnTo>
                  <a:pt x="327348" y="21600"/>
                </a:lnTo>
                <a:lnTo>
                  <a:pt x="0" y="21600"/>
                </a:lnTo>
                <a:close/>
              </a:path>
              <a:path fill="lightenLess" w="327348" h="21600">
                <a:moveTo>
                  <a:pt x="0" y="0"/>
                </a:moveTo>
                <a:lnTo>
                  <a:pt x="327348" y="0"/>
                </a:lnTo>
                <a:lnTo>
                  <a:pt x="325948" y="1400"/>
                </a:lnTo>
                <a:lnTo>
                  <a:pt x="1400" y="1400"/>
                </a:lnTo>
                <a:close/>
              </a:path>
              <a:path fill="darken" w="327348" h="21600">
                <a:moveTo>
                  <a:pt x="327348" y="0"/>
                </a:moveTo>
                <a:lnTo>
                  <a:pt x="327348" y="21600"/>
                </a:lnTo>
                <a:lnTo>
                  <a:pt x="325948" y="20200"/>
                </a:lnTo>
                <a:lnTo>
                  <a:pt x="325948" y="1400"/>
                </a:lnTo>
                <a:close/>
              </a:path>
              <a:path fill="darkenLess" w="327348" h="21600">
                <a:moveTo>
                  <a:pt x="327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48" y="20200"/>
                </a:lnTo>
                <a:close/>
              </a:path>
              <a:path fill="lighten" w="327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AutoShape 10"/>
          <p:cNvSpPr/>
          <p:nvPr/>
        </p:nvSpPr>
        <p:spPr>
          <a:xfrm>
            <a:off x="1523880" y="4114800"/>
            <a:ext cx="4800600" cy="609480"/>
          </a:xfrm>
          <a:custGeom>
            <a:avLst/>
            <a:gdLst>
              <a:gd name="textAreaLeft" fmla="*/ 39240 w 4800600"/>
              <a:gd name="textAreaRight" fmla="*/ 4761360 w 48006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70046" h="21600">
                <a:moveTo>
                  <a:pt x="0" y="0"/>
                </a:moveTo>
                <a:lnTo>
                  <a:pt x="170046" y="0"/>
                </a:lnTo>
                <a:lnTo>
                  <a:pt x="170046" y="21600"/>
                </a:lnTo>
                <a:lnTo>
                  <a:pt x="0" y="21600"/>
                </a:lnTo>
                <a:close/>
              </a:path>
              <a:path fill="lightenLess" w="170046" h="21600">
                <a:moveTo>
                  <a:pt x="0" y="0"/>
                </a:moveTo>
                <a:lnTo>
                  <a:pt x="170046" y="0"/>
                </a:lnTo>
                <a:lnTo>
                  <a:pt x="168646" y="1400"/>
                </a:lnTo>
                <a:lnTo>
                  <a:pt x="1400" y="1400"/>
                </a:lnTo>
                <a:close/>
              </a:path>
              <a:path fill="darken" w="170046" h="21600">
                <a:moveTo>
                  <a:pt x="170046" y="0"/>
                </a:moveTo>
                <a:lnTo>
                  <a:pt x="170046" y="21600"/>
                </a:lnTo>
                <a:lnTo>
                  <a:pt x="168646" y="20200"/>
                </a:lnTo>
                <a:lnTo>
                  <a:pt x="168646" y="1400"/>
                </a:lnTo>
                <a:close/>
              </a:path>
              <a:path fill="darkenLess" w="170046" h="21600">
                <a:moveTo>
                  <a:pt x="170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646" y="20200"/>
                </a:lnTo>
                <a:close/>
              </a:path>
              <a:path fill="lighten" w="170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19EF-F31A-4191-83C7-F35FE7A7A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39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117440" y="2543040"/>
            <a:ext cx="6934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tutorial uses the regression approach to ANCOVA to determine if type of undergraduate major and year of matriculation can be used to predict MCAT scor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AutoShape 5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DFB7-FE27-448A-A93E-0DFE882EB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AutoShape 3">
            <a:hlinkClick r:id="" action="ppaction://hlinkshowjump?jump=nextslide"/>
          </p:cNvPr>
          <p:cNvSpPr/>
          <p:nvPr/>
        </p:nvSpPr>
        <p:spPr>
          <a:xfrm>
            <a:off x="4800600" y="27432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927000" y="1981080"/>
            <a:ext cx="7531200" cy="37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spcBef>
                <a:spcPts val="81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Dependent variable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689040" indent="-228600">
              <a:lnSpc>
                <a:spcPct val="100000"/>
              </a:lnSpc>
              <a:spcBef>
                <a:spcPts val="814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nmtot1: MCAT total, 1992-present, most recent)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38040" indent="-338040">
              <a:spcBef>
                <a:spcPts val="81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Independent variables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689040" indent="-228600">
              <a:lnSpc>
                <a:spcPct val="100000"/>
              </a:lnSpc>
              <a:spcBef>
                <a:spcPts val="814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matyr: Year of matriculation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689040" indent="-228600">
              <a:lnSpc>
                <a:spcPct val="100000"/>
              </a:lnSpc>
              <a:spcBef>
                <a:spcPts val="814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Indicator (dummy) variables computed for undergraduate major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9760" indent="-225360">
              <a:lnSpc>
                <a:spcPct val="100000"/>
              </a:lnSpc>
              <a:spcBef>
                <a:spcPts val="326"/>
              </a:spcBef>
              <a:buClr>
                <a:srgbClr val="eaeaea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dmajor1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9760" indent="-225360">
              <a:lnSpc>
                <a:spcPct val="100000"/>
              </a:lnSpc>
              <a:spcBef>
                <a:spcPts val="326"/>
              </a:spcBef>
              <a:buClr>
                <a:srgbClr val="eaeaea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dmajor2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AutoShape 6">
            <a:hlinkClick r:id="" action="ppaction://hlinkshowjump?jump=nextslide"/>
          </p:cNvPr>
          <p:cNvSpPr/>
          <p:nvPr/>
        </p:nvSpPr>
        <p:spPr>
          <a:xfrm>
            <a:off x="7924680" y="59436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58428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CF9F-8367-414A-B8CD-C07D90234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AutoShape 2">
            <a:hlinkClick r:id="" action="ppaction://hlinkshowjump?jump=nextslide"/>
          </p:cNvPr>
          <p:cNvSpPr/>
          <p:nvPr/>
        </p:nvSpPr>
        <p:spPr>
          <a:xfrm>
            <a:off x="4800600" y="27432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762120" y="19810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 correctly use the regression approach to ANCOVA requires computing indicator (dummy) variables for different values of categorical variabl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AutoShape 5">
            <a:hlinkClick r:id="" action="ppaction://hlinkshowjump?jump=nextslide"/>
          </p:cNvPr>
          <p:cNvSpPr/>
          <p:nvPr/>
        </p:nvSpPr>
        <p:spPr>
          <a:xfrm>
            <a:off x="7924680" y="59436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58428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762120" y="3432240"/>
            <a:ext cx="7772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ariables can be computed by using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76360" indent="-2383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ransform procedure (see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Computing Variable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tutorial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76360" indent="-2383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PSS syntax (see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Using Command Syntax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utorial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A812-7C7E-45A4-A8A8-C9A9010A1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AutoShape 2">
            <a:hlinkClick r:id="" action="ppaction://hlinkshowjump?jump=nextslide"/>
          </p:cNvPr>
          <p:cNvSpPr/>
          <p:nvPr/>
        </p:nvSpPr>
        <p:spPr>
          <a:xfrm>
            <a:off x="4800600" y="27432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685800" y="198108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tutorial uses the dummy variables shown below to represent the three types of  undergraduate major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AutoShape 5">
            <a:hlinkClick r:id="" action="ppaction://hlinkshowjump?jump=nextslide"/>
          </p:cNvPr>
          <p:cNvSpPr/>
          <p:nvPr/>
        </p:nvSpPr>
        <p:spPr>
          <a:xfrm>
            <a:off x="7924680" y="59436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58428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473120" y="3338640"/>
          <a:ext cx="5842080" cy="2225520"/>
        </p:xfrm>
        <a:graphic>
          <a:graphicData uri="http://schemas.openxmlformats.org/drawingml/2006/table">
            <a:tbl>
              <a:tblPr/>
              <a:tblGrid>
                <a:gridCol w="2705040"/>
                <a:gridCol w="1536840"/>
                <a:gridCol w="16002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Type of Majo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d7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Value of </a:t>
                      </a: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dmajor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d7f5"/>
                      </a:solidFill>
                    </a:lnB>
                    <a:solidFill>
                      <a:srgbClr val="ead7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Value of </a:t>
                      </a: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dmajor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d7f5"/>
                      </a:solidFill>
                    </a:lnB>
                    <a:solidFill>
                      <a:srgbClr val="ead7f5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Biology/Chemistry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d7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d7f5"/>
                      </a:solidFill>
                    </a:lnT>
                    <a:lnB w="5760">
                      <a:solidFill>
                        <a:srgbClr val="ead7f5"/>
                      </a:solidFill>
                    </a:lnB>
                    <a:solidFill>
                      <a:srgbClr val="ead7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d7f5"/>
                      </a:solidFill>
                    </a:lnT>
                    <a:lnB w="5760">
                      <a:solidFill>
                        <a:srgbClr val="ead7f5"/>
                      </a:solidFill>
                    </a:lnB>
                    <a:solidFill>
                      <a:srgbClr val="ead7f5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Other science, health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d7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d7f5"/>
                      </a:solidFill>
                    </a:lnT>
                    <a:lnB w="5760">
                      <a:solidFill>
                        <a:srgbClr val="ead7f5"/>
                      </a:solidFill>
                    </a:lnB>
                    <a:solidFill>
                      <a:srgbClr val="ead7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d7f5"/>
                      </a:solidFill>
                    </a:lnT>
                    <a:lnB w="5760">
                      <a:solidFill>
                        <a:srgbClr val="ead7f5"/>
                      </a:solidFill>
                    </a:lnB>
                    <a:solidFill>
                      <a:srgbClr val="ead7f5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Other (non-science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d7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d7f5"/>
                      </a:solidFill>
                    </a:lnT>
                    <a:lnB>
                      <a:noFill/>
                    </a:lnB>
                    <a:solidFill>
                      <a:srgbClr val="ead7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d7f5"/>
                      </a:solidFill>
                    </a:lnT>
                    <a:lnB>
                      <a:noFill/>
                    </a:lnB>
                    <a:solidFill>
                      <a:srgbClr val="ead7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F75F-C141-464F-B48A-DC1BD5574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3" name="Picture 2" descr="C:\Instructional Technology\BCT689\PowerPoint\analyze1.gif"/>
          <p:cNvPicPr/>
          <p:nvPr/>
        </p:nvPicPr>
        <p:blipFill>
          <a:blip r:embed="rId1"/>
          <a:stretch/>
        </p:blipFill>
        <p:spPr>
          <a:xfrm>
            <a:off x="4572000" y="2970360"/>
            <a:ext cx="3967200" cy="18446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tarting the Procedur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762120" y="274176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 the menu, click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A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nalyz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AutoShape 5">
            <a:hlinkClick r:id="" action="ppaction://hlinkshowjump?jump=nextslide"/>
          </p:cNvPr>
          <p:cNvSpPr/>
          <p:nvPr/>
        </p:nvSpPr>
        <p:spPr>
          <a:xfrm>
            <a:off x="4572000" y="2971800"/>
            <a:ext cx="685800" cy="228600"/>
          </a:xfrm>
          <a:custGeom>
            <a:avLst/>
            <a:gdLst>
              <a:gd name="textAreaLeft" fmla="*/ 14760 w 685800"/>
              <a:gd name="textAreaRight" fmla="*/ 671040 w 685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64732" h="21600">
                <a:moveTo>
                  <a:pt x="0" y="0"/>
                </a:moveTo>
                <a:lnTo>
                  <a:pt x="64732" y="0"/>
                </a:lnTo>
                <a:lnTo>
                  <a:pt x="64732" y="21600"/>
                </a:lnTo>
                <a:lnTo>
                  <a:pt x="0" y="21600"/>
                </a:lnTo>
                <a:close/>
              </a:path>
              <a:path fill="lightenLess" w="64732" h="21600">
                <a:moveTo>
                  <a:pt x="0" y="0"/>
                </a:moveTo>
                <a:lnTo>
                  <a:pt x="64732" y="0"/>
                </a:lnTo>
                <a:lnTo>
                  <a:pt x="63332" y="1400"/>
                </a:lnTo>
                <a:lnTo>
                  <a:pt x="1400" y="1400"/>
                </a:lnTo>
                <a:close/>
              </a:path>
              <a:path fill="darken" w="64732" h="21600">
                <a:moveTo>
                  <a:pt x="64732" y="0"/>
                </a:moveTo>
                <a:lnTo>
                  <a:pt x="64732" y="21600"/>
                </a:lnTo>
                <a:lnTo>
                  <a:pt x="63332" y="20200"/>
                </a:lnTo>
                <a:lnTo>
                  <a:pt x="63332" y="1400"/>
                </a:lnTo>
                <a:close/>
              </a:path>
              <a:path fill="darkenLess" w="64732" h="21600">
                <a:moveTo>
                  <a:pt x="647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32" y="20200"/>
                </a:lnTo>
                <a:close/>
              </a:path>
              <a:path fill="lighten" w="647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A888-0F4A-4E37-B927-C3A94D18D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9" name="Picture 2" descr="C:\Instructional Technology\BCT689\PowerPoint\analyze2.gif"/>
          <p:cNvPicPr/>
          <p:nvPr/>
        </p:nvPicPr>
        <p:blipFill>
          <a:blip r:embed="rId1"/>
          <a:stretch/>
        </p:blipFill>
        <p:spPr>
          <a:xfrm>
            <a:off x="4570560" y="2970360"/>
            <a:ext cx="4059000" cy="18478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tarting the Procedur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62120" y="274176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 the menu, click on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A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nalyz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762120" y="36561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to 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R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egress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AutoShape 6">
            <a:hlinkClick r:id="" action="ppaction://hlinkshowjump?jump=nextslide"/>
          </p:cNvPr>
          <p:cNvSpPr/>
          <p:nvPr/>
        </p:nvSpPr>
        <p:spPr>
          <a:xfrm>
            <a:off x="4800600" y="4267080"/>
            <a:ext cx="1752480" cy="304920"/>
          </a:xfrm>
          <a:custGeom>
            <a:avLst/>
            <a:gdLst>
              <a:gd name="textAreaLeft" fmla="*/ 19440 w 1752480"/>
              <a:gd name="textAreaRight" fmla="*/ 1733040 w 1752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24022" h="21600">
                <a:moveTo>
                  <a:pt x="0" y="0"/>
                </a:moveTo>
                <a:lnTo>
                  <a:pt x="124022" y="0"/>
                </a:lnTo>
                <a:lnTo>
                  <a:pt x="124022" y="21600"/>
                </a:lnTo>
                <a:lnTo>
                  <a:pt x="0" y="21600"/>
                </a:lnTo>
                <a:close/>
              </a:path>
              <a:path fill="lightenLess" w="124022" h="21600">
                <a:moveTo>
                  <a:pt x="0" y="0"/>
                </a:moveTo>
                <a:lnTo>
                  <a:pt x="124022" y="0"/>
                </a:lnTo>
                <a:lnTo>
                  <a:pt x="122622" y="1400"/>
                </a:lnTo>
                <a:lnTo>
                  <a:pt x="1400" y="1400"/>
                </a:lnTo>
                <a:close/>
              </a:path>
              <a:path fill="darken" w="124022" h="21600">
                <a:moveTo>
                  <a:pt x="124022" y="0"/>
                </a:moveTo>
                <a:lnTo>
                  <a:pt x="124022" y="21600"/>
                </a:lnTo>
                <a:lnTo>
                  <a:pt x="122622" y="20200"/>
                </a:lnTo>
                <a:lnTo>
                  <a:pt x="122622" y="1400"/>
                </a:lnTo>
                <a:close/>
              </a:path>
              <a:path fill="darkenLess" w="124022" h="21600">
                <a:moveTo>
                  <a:pt x="1240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2622" y="20200"/>
                </a:lnTo>
                <a:close/>
              </a:path>
              <a:path fill="lighten" w="1240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4895-37A2-469B-90AF-1D1645881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6" name="Picture 2" descr="C:\BCT 689\PowerPoint\spss gifs\mlr\regress2.gif"/>
          <p:cNvPicPr/>
          <p:nvPr/>
        </p:nvPicPr>
        <p:blipFill>
          <a:blip r:embed="rId1"/>
          <a:srcRect l="3648" t="0" r="0" b="3125"/>
          <a:stretch/>
        </p:blipFill>
        <p:spPr>
          <a:xfrm>
            <a:off x="4570560" y="2970360"/>
            <a:ext cx="4108320" cy="19825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tarting the Procedur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762120" y="274176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 the menu, click on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A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nalyz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762120" y="36561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to 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R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egress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762120" y="45720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to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L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nea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AutoShape 7">
            <a:hlinkClick r:id="" action="ppaction://hlinkshowjump?jump=nextslide"/>
          </p:cNvPr>
          <p:cNvSpPr/>
          <p:nvPr/>
        </p:nvSpPr>
        <p:spPr>
          <a:xfrm>
            <a:off x="6477120" y="4343400"/>
            <a:ext cx="1447560" cy="228600"/>
          </a:xfrm>
          <a:custGeom>
            <a:avLst/>
            <a:gdLst>
              <a:gd name="textAreaLeft" fmla="*/ 14760 w 1447560"/>
              <a:gd name="textAreaRight" fmla="*/ 1432800 w 1447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36596" h="21600">
                <a:moveTo>
                  <a:pt x="0" y="0"/>
                </a:moveTo>
                <a:lnTo>
                  <a:pt x="136596" y="0"/>
                </a:lnTo>
                <a:lnTo>
                  <a:pt x="136596" y="21600"/>
                </a:lnTo>
                <a:lnTo>
                  <a:pt x="0" y="21600"/>
                </a:lnTo>
                <a:close/>
              </a:path>
              <a:path fill="lightenLess" w="136596" h="21600">
                <a:moveTo>
                  <a:pt x="0" y="0"/>
                </a:moveTo>
                <a:lnTo>
                  <a:pt x="136596" y="0"/>
                </a:lnTo>
                <a:lnTo>
                  <a:pt x="135196" y="1400"/>
                </a:lnTo>
                <a:lnTo>
                  <a:pt x="1400" y="1400"/>
                </a:lnTo>
                <a:close/>
              </a:path>
              <a:path fill="darken" w="136596" h="21600">
                <a:moveTo>
                  <a:pt x="136596" y="0"/>
                </a:moveTo>
                <a:lnTo>
                  <a:pt x="136596" y="21600"/>
                </a:lnTo>
                <a:lnTo>
                  <a:pt x="135196" y="20200"/>
                </a:lnTo>
                <a:lnTo>
                  <a:pt x="135196" y="1400"/>
                </a:lnTo>
                <a:close/>
              </a:path>
              <a:path fill="darkenLess" w="136596" h="21600">
                <a:moveTo>
                  <a:pt x="136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5196" y="20200"/>
                </a:lnTo>
                <a:close/>
              </a:path>
              <a:path fill="lighten" w="136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9T00:33:49Z</dcterms:created>
  <dc:creator>Julia Hartman</dc:creator>
  <dc:description/>
  <cp:keywords>SPSS ANCOVA Analysis of Covariance</cp:keywords>
  <dc:language>en-US</dc:language>
  <cp:lastModifiedBy>Windows User</cp:lastModifiedBy>
  <dcterms:modified xsi:type="dcterms:W3CDTF">2011-12-05T18:34:45Z</dcterms:modified>
  <cp:revision>160</cp:revision>
  <dc:subject>Regression Approach to ANCOVA</dc:subject>
  <dc:title>SPSS ANCOVA (Regression) Tutorial</dc:title>
</cp:coreProperties>
</file>